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8B27-4801-47E7-96A2-90403EFB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798E-D697-404D-AFA3-D31E3164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8AF4-6E87-431C-803D-43F51C73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6244-33FB-4779-BFC3-7BFB1D2A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90A4-033A-4FFC-A39C-950A919F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A2DB-457E-4874-A01D-F85D9BA8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9E6-CEE6-45B2-813C-9E46C888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52AB-9D61-4D62-97A2-FC242E47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2B04-69D1-48AE-9068-9D609899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2A73-2789-4CF1-BE4F-0E1B4660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B57-0642-4945-9FB5-9EC59E33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F527-F0BD-44BE-9BF3-E6518DC4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4906-1738-4426-B1EC-D477D46B6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1754280"/>
            <a:ext cx="447120" cy="433440"/>
            <a:chOff x="6443640" y="1754280"/>
            <a:chExt cx="447120" cy="433440"/>
          </a:xfrm>
        </p:grpSpPr>
        <p:sp>
          <p:nvSpPr>
            <p:cNvPr id="42" name=""/>
            <p:cNvSpPr/>
            <p:nvPr/>
          </p:nvSpPr>
          <p:spPr>
            <a:xfrm>
              <a:off x="644364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681768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643280" y="1754280"/>
            <a:ext cx="447120" cy="433440"/>
            <a:chOff x="4643280" y="1754280"/>
            <a:chExt cx="447120" cy="433440"/>
          </a:xfrm>
        </p:grpSpPr>
        <p:sp>
          <p:nvSpPr>
            <p:cNvPr id="45" name=""/>
            <p:cNvSpPr/>
            <p:nvPr/>
          </p:nvSpPr>
          <p:spPr>
            <a:xfrm>
              <a:off x="464328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01732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714920" y="3556080"/>
            <a:ext cx="447120" cy="433440"/>
            <a:chOff x="4714920" y="3556080"/>
            <a:chExt cx="447120" cy="433440"/>
          </a:xfrm>
        </p:grpSpPr>
        <p:sp>
          <p:nvSpPr>
            <p:cNvPr id="48" name=""/>
            <p:cNvSpPr/>
            <p:nvPr/>
          </p:nvSpPr>
          <p:spPr>
            <a:xfrm>
              <a:off x="471492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08896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987640" y="3556080"/>
            <a:ext cx="447120" cy="433440"/>
            <a:chOff x="2987640" y="3556080"/>
            <a:chExt cx="447120" cy="433440"/>
          </a:xfrm>
        </p:grpSpPr>
        <p:sp>
          <p:nvSpPr>
            <p:cNvPr id="51" name=""/>
            <p:cNvSpPr/>
            <p:nvPr/>
          </p:nvSpPr>
          <p:spPr>
            <a:xfrm>
              <a:off x="298764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6168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914560" y="3843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755160" y="5802120"/>
            <a:ext cx="447120" cy="433080"/>
            <a:chOff x="3755160" y="5802120"/>
            <a:chExt cx="447120" cy="433080"/>
          </a:xfrm>
        </p:grpSpPr>
        <p:sp>
          <p:nvSpPr>
            <p:cNvPr id="55" name=""/>
            <p:cNvSpPr/>
            <p:nvPr/>
          </p:nvSpPr>
          <p:spPr>
            <a:xfrm rot="10800000">
              <a:off x="3768840" y="580212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755160" y="586296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515280" y="4203720"/>
            <a:ext cx="447120" cy="433440"/>
            <a:chOff x="6515280" y="4203720"/>
            <a:chExt cx="447120" cy="433440"/>
          </a:xfrm>
        </p:grpSpPr>
        <p:sp>
          <p:nvSpPr>
            <p:cNvPr id="58" name=""/>
            <p:cNvSpPr/>
            <p:nvPr/>
          </p:nvSpPr>
          <p:spPr>
            <a:xfrm rot="10800000">
              <a:off x="6528960" y="4203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515280" y="42642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914560" y="1754280"/>
            <a:ext cx="447120" cy="433440"/>
            <a:chOff x="2914560" y="1754280"/>
            <a:chExt cx="447120" cy="433440"/>
          </a:xfrm>
        </p:grpSpPr>
        <p:sp>
          <p:nvSpPr>
            <p:cNvPr id="61" name=""/>
            <p:cNvSpPr/>
            <p:nvPr/>
          </p:nvSpPr>
          <p:spPr>
            <a:xfrm>
              <a:off x="291456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328860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65320" y="5373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33360" y="545472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8880" y="359100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415880" y="4368960"/>
            <a:ext cx="12960" cy="987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6920" y="5427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73880" y="38480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73520" y="38386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43840" y="2820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4040" y="204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00440" y="2031840"/>
            <a:ext cx="505080" cy="53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08160" y="38703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89320" y="4203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658520" y="4274640"/>
            <a:ext cx="208620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1080" y="3198960"/>
            <a:ext cx="1162080" cy="804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03520" y="413244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6400" y="203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87640" y="204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714920" y="204300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588000" y="3843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88000" y="38433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813120" y="54165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58920" y="5356080"/>
                <a:ext cx="361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170920" y="283536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21120" y="38577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316160" y="387972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515280" y="204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067280" y="1539720"/>
                <a:ext cx="5839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95240" y="463536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051440" y="117936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19640" y="39146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 flipV="1">
            <a:off x="5180040" y="4132440"/>
            <a:ext cx="1303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4132440"/>
            <a:ext cx="1250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94080" y="2298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2280" y="2313000"/>
            <a:ext cx="131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8040" y="2506680"/>
            <a:ext cx="149868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619280" y="2451240"/>
            <a:ext cx="132552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86440" y="2413080"/>
            <a:ext cx="1176480" cy="577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72240" y="2535120"/>
            <a:ext cx="33480" cy="1303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338560" y="1179360"/>
                <a:ext cx="564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359080" y="153972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562200" y="190008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324400" y="1900080"/>
                <a:ext cx="582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083280" y="1395360"/>
                <a:ext cx="53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451640" y="3700440"/>
                <a:ext cx="830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738840" y="2835360"/>
                <a:ext cx="547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722920" y="283536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4040" y="2835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914560" y="3195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14760" y="3195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498920" y="283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19280" y="290844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13120" y="374508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89280" y="374004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72280" y="3735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78400" y="4203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380360" y="2259000"/>
                <a:ext cx="717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334040" y="585936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54560" y="6180120"/>
                <a:ext cx="517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999120" y="4491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020000" y="4797360"/>
                <a:ext cx="517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020000" y="513072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043760" y="5462640"/>
                <a:ext cx="6015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291280" y="4995720"/>
                <a:ext cx="5666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1320" y="54151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251080" y="5067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24000" y="189000"/>
                <a:ext cx="26654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２進数の和を計算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06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06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06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07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07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07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08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1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7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17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18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18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18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19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19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19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29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29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29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30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30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30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31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40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41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41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1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2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2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42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52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52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53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53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53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54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4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7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64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64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64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65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65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65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66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9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6576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75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76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76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76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77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77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77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0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87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87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87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88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88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88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89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2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98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99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99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99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00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00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00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10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10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11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11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11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12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12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5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3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3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3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24000" y="692280"/>
                <a:ext cx="18000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24000" y="1197000"/>
                <a:ext cx="223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076720" y="5950080"/>
                <a:ext cx="331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22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22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22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23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23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23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7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33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34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34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34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35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35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5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45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45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46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46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46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47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0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3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56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7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7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7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58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58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58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2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68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68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69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69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9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70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70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3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3668760" y="14652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80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80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80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81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81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81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82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5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91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92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92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92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93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93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93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6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3683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03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03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03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04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04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04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05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3" name=""/>
              <p:cNvSpPr txBox="1"/>
              <p:nvPr/>
            </p:nvSpPr>
            <p:spPr>
              <a:xfrm>
                <a:off x="2511360" y="5948280"/>
                <a:ext cx="2872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1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1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1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1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1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1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1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2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2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2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2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2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2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2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5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087880" y="5932440"/>
                <a:ext cx="333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3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3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3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3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3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3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4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1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4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5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5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5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5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5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5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7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6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6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6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6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6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9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3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7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7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7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7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5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43" name=""/>
          <p:cNvGrpSpPr/>
          <p:nvPr/>
        </p:nvGrpSpPr>
        <p:grpSpPr>
          <a:xfrm>
            <a:off x="2484360" y="2492280"/>
            <a:ext cx="2808360" cy="1079640"/>
            <a:chOff x="2484360" y="2492280"/>
            <a:chExt cx="2808360" cy="1079640"/>
          </a:xfrm>
        </p:grpSpPr>
        <p:sp>
          <p:nvSpPr>
            <p:cNvPr id="3844" name=""/>
            <p:cNvSpPr/>
            <p:nvPr/>
          </p:nvSpPr>
          <p:spPr>
            <a:xfrm>
              <a:off x="2484360" y="2492280"/>
              <a:ext cx="2808360" cy="1079640"/>
            </a:xfrm>
            <a:prstGeom prst="wedgeRoundRectCallout">
              <a:avLst>
                <a:gd name="adj1" fmla="val -71425"/>
                <a:gd name="adj2" fmla="val 146615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668680" y="2608200"/>
              <a:ext cx="2449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受理状態に遷移し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計算が終了した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4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4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4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4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4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4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5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7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5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6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6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6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6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6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6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3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7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7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7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7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7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7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7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8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8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8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8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8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8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8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94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94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95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95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95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96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96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1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7:03:32Z</dcterms:modified>
  <cp:revision>17</cp:revision>
  <dc:subject/>
  <dc:title>スライド 1</dc:title>
</cp:coreProperties>
</file>